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6660-CA53-40DF-BB39-F6C61DE4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B93-1824-4CCF-BA0C-687F75CD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584D-98A5-4167-9C0E-38B11B1D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4DC0-E11D-4368-A2F6-017D3F57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408-F87C-4BCC-84AE-F1F93049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120-AFDC-45CD-892C-004C6BF2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431-2AF1-458F-AFFF-8814AF06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BAF-B0FE-4484-8B73-C7B6EEF3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289B-6F51-47CC-AF5A-1ED69066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2546-5C99-4A9E-BCE6-16D45C9B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001-A728-403F-96D8-1CD11764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286-D622-4433-80E2-29284500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5442-30E7-41DF-A223-D46F50862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469280" cy="5602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56160" y="208080"/>
            <a:ext cx="65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each of these icons and what does it represent (show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29280" cy="5872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160" y="65160"/>
            <a:ext cx="65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you identify a directory and two types of files from the l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06000" cy="6303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17400" y="2924280"/>
            <a:ext cx="6077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tell about the “student council” folder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at this scre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you need to create your own folders to help organ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school work……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3:41:19Z</dcterms:created>
  <dc:creator>assistanthead-sec</dc:creator>
  <dc:description/>
  <dc:language>en-US</dc:language>
  <cp:lastModifiedBy>jmarshall</cp:lastModifiedBy>
  <dcterms:modified xsi:type="dcterms:W3CDTF">2008-02-18T05:24:43Z</dcterms:modified>
  <cp:revision>1</cp:revision>
  <dc:subject/>
  <dc:title>Slide 1</dc:title>
</cp:coreProperties>
</file>